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7727AA0-56E6-4503-9069-EB2C1FDF1D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1FD352-F43B-4281-B465-AAF43EBF8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EE5AF0B-7506-4734-BE08-257ACD2E48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6D56CF2-CE23-4075-9CDA-68449681FC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0C0F779-C79C-4CF9-BB72-0B8D0A1635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9C0BBAF-001E-4D69-8111-304875B60D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485491A-520A-44A3-86DE-8CE3650530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7A6C133-A57B-4174-8485-40EE76FA1C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974A10D-2535-4EF4-99E6-1D5128728C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F61BBDD-C4D8-4AF4-A2BA-8D2177C47D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C72FBC7-BECA-48D5-B47C-06503125E4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228464E-D963-46A1-BE72-287F2440D3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94E2EA3-1234-4CDF-9403-0940DD1A73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AF77-A91E-4746-AEEC-831EDA543B3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92FF-1C39-41B7-86B1-E0E3B64461B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5161-AA4C-4BBA-905C-49243478059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32D5-726D-4372-8B4A-7FF3D407949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7813-FC14-4B9F-A400-F6F77CA145B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F9F0-0DA1-48F6-B6EA-5A557CA292E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CBD0-0C4D-49E5-98B2-48A9B08125B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771E-2F6F-4972-8817-F7F9C1A969C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200B75F6-D65B-4451-89C7-10E8352EF7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2400" y="173160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br>
              <a:rPr sz="3100"/>
            </a:br>
            <a:br>
              <a:rPr sz="4800"/>
            </a:b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Tutorial: Using PSP2.1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Q A/F Rat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17360" y="1709640"/>
            <a:ext cx="74134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Q A/F Ratio is the ratio of appraisal costs to failure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2470320" y="5730840"/>
                <a:ext cx="3848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COQ A/F 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% Appraisal CO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%Failure CO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2" name="Picture 7" descr="s10"/>
          <p:cNvPicPr/>
          <p:nvPr/>
        </p:nvPicPr>
        <p:blipFill>
          <a:blip r:embed="rId1"/>
          <a:stretch/>
        </p:blipFill>
        <p:spPr>
          <a:xfrm>
            <a:off x="1284120" y="2627280"/>
            <a:ext cx="657396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.1 provides data that allows you to manage the cost of improving the quality of the programs you wri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templates will help you to record and document your design, making it easier to revi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new elements of PSP2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the PSP2.1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2.1 for programs 6, 7, and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2.1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s of PSP2.1 are to intro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al measures for managing process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templates that provide an orderly framework and format for recording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ces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.1 adds the following process elem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.1 design review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.1 design review check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templates are discussed in the lectures on state machines and software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lan Summary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walk through an example of a completed PSP2.1 project plan summ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the new items on this form are discus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Size Prediction Interv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ize prediction intervals are automatical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d using the method described in th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 – upper prediction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PI – lower prediction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values are calculated only if PROBE method A 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s6"/>
          <p:cNvPicPr/>
          <p:nvPr/>
        </p:nvPicPr>
        <p:blipFill>
          <a:blip r:embed="rId1"/>
          <a:stretch/>
        </p:blipFill>
        <p:spPr>
          <a:xfrm>
            <a:off x="2214720" y="4122720"/>
            <a:ext cx="436212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Time Prediction Interv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time prediction intervals are automatical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d using the method described in th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 – upper prediction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PI – lower prediction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values are calculated only if PROBE method A 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s7"/>
          <p:cNvPicPr/>
          <p:nvPr/>
        </p:nvPicPr>
        <p:blipFill>
          <a:blip r:embed="rId1"/>
          <a:stretch/>
        </p:blipFill>
        <p:spPr>
          <a:xfrm>
            <a:off x="2390760" y="4154400"/>
            <a:ext cx="4362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:  Percent Appraisal CO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17360" y="1709640"/>
            <a:ext cx="741348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Appraisal Cost of Quality is the percentage of development time spent in design review and code revi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14280" y="5753160"/>
                <a:ext cx="67280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Appraisal CO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sign Review Tim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de Review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Development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4" name="Picture 7" descr="s8"/>
          <p:cNvPicPr/>
          <p:nvPr/>
        </p:nvPicPr>
        <p:blipFill>
          <a:blip r:embed="rId1"/>
          <a:stretch/>
        </p:blipFill>
        <p:spPr>
          <a:xfrm>
            <a:off x="1278000" y="2808360"/>
            <a:ext cx="658800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:  Percent Failure CO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17360" y="1709640"/>
            <a:ext cx="74134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Failure Cost of Quality is the percentage of development time spent in compile and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1952640" y="5664240"/>
                <a:ext cx="48909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Failure CO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mpile Tim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est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Development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8" name="Picture 7" descr="s9"/>
          <p:cNvPicPr/>
          <p:nvPr/>
        </p:nvPicPr>
        <p:blipFill>
          <a:blip r:embed="rId1"/>
          <a:stretch/>
        </p:blipFill>
        <p:spPr>
          <a:xfrm>
            <a:off x="1278000" y="2600280"/>
            <a:ext cx="6588000" cy="280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13Z</dcterms:modified>
  <cp:revision>130</cp:revision>
  <dc:subject/>
  <dc:title>No Slide Title</dc:title>
</cp:coreProperties>
</file>